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ECEA-3EF5-4FFA-8F87-F0301D0C7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FC0B-E659-4918-86E9-E701F4A02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D190-BAA3-473D-94BB-56FF09DE7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2B4C-DB85-4BAB-80CC-3A60F1E46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B8C8-F44E-4CCA-A5E6-6AD8461045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8009-E3F9-4217-8128-6E9842ABA3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A830-F754-4770-8DB4-F49131D07A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B299-8CB1-47A7-80AF-527C7059B6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4FD9-D543-41C0-B069-2BB41BCECC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B642-145D-4371-90F4-83BE457121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C29F-9615-43D4-9885-28FF1D6455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1D48-940A-45C4-822D-AEE4537BB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B064E-1828-406D-922F-22F6A0DB73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CC99-E955-4D71-B6AA-C08A99C12D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DEBD-2984-49CB-A1AC-064F9B1F7A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99B6-4366-4392-95F0-7044965F5A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6A95-6099-4E21-9AC7-1DC80975D0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E2077-03AD-4B57-9C63-45DFE720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4F09E-27AA-44D5-854F-09852550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68CE6-5C55-4C84-AC57-7E5B5ED7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579DB-3807-4059-91A7-8A693174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573C4-6749-43E9-B1A9-B85BE4CD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E10B-81C0-4670-941E-29E74AB613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1D658-04C4-4A4F-9A8F-F1B8B0B1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30132-41CC-4D7C-95F2-34C09747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3FCA9-D1AF-4786-AC43-DA45B59F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F868E-5D20-480B-A29B-2F541E39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539B0-45A3-4E99-A79F-548EBDD7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0EB13-02B8-4F48-B84D-67AA4ABC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5330B-686D-4326-A7FC-736D11CA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D4F3-B22C-4CAF-B5F1-A4F350C54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BE11-7A22-4B1C-8238-AF6C20037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95440" y="249120"/>
            <a:ext cx="62150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5E4C-33DC-4193-A631-371885CE5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F0A5-56E9-4922-9A55-DFEAB242B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C325-9000-417C-8B9D-723045054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95440" y="239040"/>
            <a:ext cx="6215040" cy="4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2BCE-0072-45B6-95DD-FB1500212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C449-4B76-43A7-A280-2A416C300B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" name="Picture 6" descr=""/>
          <p:cNvPicPr/>
          <p:nvPr/>
        </p:nvPicPr>
        <p:blipFill>
          <a:blip r:embed="rId2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29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EI_Logo.tif"/>
          <p:cNvPicPr/>
          <p:nvPr/>
        </p:nvPicPr>
        <p:blipFill>
          <a:blip r:embed="rId2"/>
          <a:stretch/>
        </p:blipFill>
        <p:spPr>
          <a:xfrm>
            <a:off x="3753000" y="241200"/>
            <a:ext cx="3333600" cy="54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"/>
          <p:cNvPicPr/>
          <p:nvPr/>
        </p:nvPicPr>
        <p:blipFill>
          <a:blip r:embed="rId3"/>
          <a:stretch/>
        </p:blipFill>
        <p:spPr>
          <a:xfrm>
            <a:off x="2533680" y="157320"/>
            <a:ext cx="1033560" cy="71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6942-D76C-4BA0-A6A9-2FDA156F99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76000" y="144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346040" y="890640"/>
            <a:ext cx="6465960" cy="712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495440" y="1033560"/>
            <a:ext cx="6456240" cy="47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603440" y="1165320"/>
            <a:ext cx="6454800" cy="23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8217000" y="166680"/>
            <a:ext cx="707760" cy="75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387440" cy="971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AFB3-D221-46D1-A6A1-4E0C3F0A9D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downs@ciesin.columbia.edu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1409400"/>
            <a:ext cx="80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ternative Approaches to Collaborative Software Deployment Leverag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en Source Softwa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2552760"/>
            <a:ext cx="754380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bert R. Dow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  <a:ea typeface="Arial"/>
                <a:hlinkClick r:id="rId1"/>
              </a:rPr>
              <a:t>rdowns@ciesin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SA Socioeconomic Data and Applications Center (SEDA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er for International Earth Science Information Network (CIESI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arth Institute, Columbia Univers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ter 2012 ESIP Federation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shington,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uary 4,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1188" t="0" r="0" b="0"/>
          <a:stretch/>
        </p:blipFill>
        <p:spPr>
          <a:xfrm>
            <a:off x="2867040" y="0"/>
            <a:ext cx="31669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49120"/>
            <a:ext cx="6924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S Software Deployment Alternatives *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ource Software (O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-Supported 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Software (with or without OSS compon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ations of these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7EB9-7D8A-452B-9A7F-9B93AD17E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612000" y="489096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Derived from: Yetman &amp; Downs. 2011. Models for Deploying Open Sourc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 Software to Support Earth Science Data Processing and Distribu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 Fall AGU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SS Deploy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nd share software as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ense as open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ccess within OS community (Apache, SourceForge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ly contribute to OSS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 OS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, enhance, document, etc., to improv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97E0-03A5-4677-8893-657154502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ploying Vendor-Supported O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 OSS product provided by ven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 provides services such as installation, hosting, enhancement, customization, documentation, 24x7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 contributes enhancements to 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ments meeting customer needs are also applicable to the OSS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AA51-56BA-48FF-847B-E99976FD6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5440" y="249120"/>
            <a:ext cx="62150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ploying Commercial Softwa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or may not contain OS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common needs for enhancements among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e on customizations within customer community (can become O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A260-DE6E-4CF7-81CE-263607E8E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95440" y="248760"/>
            <a:ext cx="62150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ploying combinations of OSS and Commercial Products and Servi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omposed of commercial and 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ng with OSS and customer comm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BA03-AB94-4FB4-85DF-2C4FF8A33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249120"/>
            <a:ext cx="7372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sessing Collaborative OSS Deployment Options*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* Derived from Yetman &amp; Downs (2011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B05D-001F-400E-93ED-CFDA95A7C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95360" y="1266840"/>
          <a:ext cx="8420040" cy="5776920"/>
        </p:xfrm>
        <a:graphic>
          <a:graphicData uri="http://schemas.openxmlformats.org/drawingml/2006/table">
            <a:tbl>
              <a:tblPr/>
              <a:tblGrid>
                <a:gridCol w="2104920"/>
                <a:gridCol w="2104920"/>
                <a:gridCol w="1962360"/>
                <a:gridCol w="2247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ft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labo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 Source Software (O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staff and OS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 community stag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ment &amp; support from OS community and interna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dor-Supported 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dor and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in vendor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ment &amp; support from vendor &amp; OS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Soft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dor &amp; customer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 discontin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ment &amp; support from vendor &amp; customer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binations of Commercial &amp; 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 and customer community, vendor, and interna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 community stagnation, change in vendor services or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ment &amp; support from diversified comm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9:01:14Z</dcterms:created>
  <dc:creator>Robert R. Downs</dc:creator>
  <dc:description/>
  <dc:language>en-US</dc:language>
  <cp:lastModifiedBy>Erin Robinson</cp:lastModifiedBy>
  <cp:lastPrinted>2002-01-07T14:25:07Z</cp:lastPrinted>
  <dcterms:modified xsi:type="dcterms:W3CDTF">2012-01-11T22:34:27Z</dcterms:modified>
  <cp:revision>2170</cp:revision>
  <dc:subject/>
  <dc:title>SEDAC-PrepforTestAuditPTAB</dc:title>
</cp:coreProperties>
</file>